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1C7F-E13D-401C-8300-0ECC98D1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1259-D930-4517-B889-CAB4A210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90A0-8C54-4E41-8E82-B1FD96E0B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20A6-3EDD-414D-963D-4E9C09E74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E176-7D74-456A-BA2C-D3E8E397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83FD-BBC5-451E-924B-27528EBA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D01C-9B0A-4596-AE2A-80FC47E6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65DA-CC8C-44C6-845F-6EFB0810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F47C-A842-487E-AAA8-BC6DBC47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397F-86F2-4A92-8530-4DF89301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6548-95B1-4B9F-8016-82CA1F62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21DC-3439-4101-88E2-E834FC1D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D51D-7FAC-4A29-973E-28881F9BEC8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98072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ultigenerative Grammar Systems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MG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301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304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308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311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315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318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322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325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336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340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344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348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n-multigenerative rule-synchronized grammar syste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4191120"/>
            <a:ext cx="3962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397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105520" y="4191120"/>
            <a:ext cx="403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25909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2193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219320"/>
            <a:ext cx="807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R is defined analogically as the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Multistring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&amp; 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25909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nguage generated by n-MGR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, 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is defined analogically as a language generated by n-MGN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461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464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468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471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475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478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482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485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8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500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50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510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515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Conversions Between MG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N to equivalent n-MGR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895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 equivalent n-MGN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42920" y="5257800"/>
            <a:ext cx="29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57800" y="5257800"/>
            <a:ext cx="30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86200" y="5410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886200" y="58672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6019920"/>
            <a:ext cx="220968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62520" y="5562720"/>
            <a:ext cx="3312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59280" y="5805360"/>
            <a:ext cx="25146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96000" y="5805360"/>
            <a:ext cx="259092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981080" y="5410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1143000"/>
            <a:ext cx="777240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N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R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denote the language families defined by n-MGN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and n-MGR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RE) =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R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N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-MGNs and n-MG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1280" y="112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only the leftmost derivation in 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5120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84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415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987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9415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987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36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940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36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940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4688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48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376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894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4376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894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7528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5324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896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324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896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569960" y="2736000"/>
            <a:ext cx="1295640" cy="838440"/>
          </a:xfrm>
          <a:custGeom>
            <a:avLst/>
            <a:gdLst>
              <a:gd name="textAreaLeft" fmla="*/ 325440 w 1295640"/>
              <a:gd name="textAreaRight" fmla="*/ 970200 w 129564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69960" y="365112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83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0292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0820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271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843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271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843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98560" y="2965320"/>
            <a:ext cx="83844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3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5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12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55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12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415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398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559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98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559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5599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13410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892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24576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036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066000" y="2736000"/>
            <a:ext cx="1295280" cy="838440"/>
          </a:xfrm>
          <a:custGeom>
            <a:avLst/>
            <a:gdLst>
              <a:gd name="textAreaLeft" fmla="*/ 325440 w 1295280"/>
              <a:gd name="textAreaRight" fmla="*/ 969840 w 129528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6000" y="365112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694400" y="2736720"/>
            <a:ext cx="1676160" cy="838440"/>
          </a:xfrm>
          <a:prstGeom prst="parallelogram">
            <a:avLst>
              <a:gd name="adj" fmla="val 4637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9986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0388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5232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9804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232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804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294600" y="2965320"/>
            <a:ext cx="83808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944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1516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608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516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08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4376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94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520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94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3520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05564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837400" y="281304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742160" y="2889360"/>
            <a:ext cx="60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1993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60880" y="2736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111816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04292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16200000">
            <a:off x="2091240" y="1734120"/>
            <a:ext cx="216000" cy="576360"/>
          </a:xfrm>
          <a:custGeom>
            <a:avLst/>
            <a:gdLst>
              <a:gd name="textAreaLeft" fmla="*/ 0 w 216000"/>
              <a:gd name="textAreaRight" fmla="*/ 7812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7964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16200000">
            <a:off x="306288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987640" y="148428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16200000">
            <a:off x="5616360" y="1447560"/>
            <a:ext cx="216000" cy="129564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0872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6555600" y="1805400"/>
            <a:ext cx="215640" cy="576360"/>
          </a:xfrm>
          <a:custGeom>
            <a:avLst/>
            <a:gdLst>
              <a:gd name="textAreaLeft" fmla="*/ 0 w 215640"/>
              <a:gd name="textAreaRight" fmla="*/ 77760 w 21564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4364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16200000">
            <a:off x="7523640" y="141192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272360" y="155736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879560" y="558972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13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702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3274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702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274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796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65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223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65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223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75240" y="5589720"/>
            <a:ext cx="53532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77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659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823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659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823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00364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608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180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608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9180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16200000">
            <a:off x="104364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6200000">
            <a:off x="29865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1636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16200000">
            <a:off x="5545080" y="4834080"/>
            <a:ext cx="216000" cy="12952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16200000">
            <a:off x="74523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55640" y="4221000"/>
            <a:ext cx="763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7164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27236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3564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40360" y="54468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3528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30072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1280" y="4221000"/>
            <a:ext cx="853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general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derivation in </a:t>
            </a:r>
            <a:r>
              <a:rPr b="1" lang="en-US" sz="2300" spc="-1" strike="noStrike" u="sng">
                <a:solidFill>
                  <a:srgbClr val="3333cc"/>
                </a:solidFill>
                <a:uFillTx/>
                <a:latin typeface="Times New Roman"/>
              </a:rPr>
              <a:t>Genaral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Grammar To M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120" y="1066680"/>
            <a:ext cx="447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mar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09680"/>
            <a:ext cx="8001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syste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a set of rules, which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gene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6019920"/>
            <a:ext cx="769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ated multistring i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8098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2670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25780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886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343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el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31840" y="523224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05120" y="472356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30520" y="426708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ecking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8604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38322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G)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32130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4360" y="3716280"/>
            <a:ext cx="734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76360" y="47242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360" y="5805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trix Gramma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9640" y="1052640"/>
            <a:ext cx="73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32000" y="206064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31417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1280" y="378936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7840" y="3789360"/>
            <a:ext cx="698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2200" y="5516640"/>
            <a:ext cx="38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G and Genera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-MGN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n-MGR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Convers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1280" y="1125360"/>
            <a:ext cx="798984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l 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there exists an equivalent matrix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matrix grammar there exist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1280" y="5084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3528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1280" y="5516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80000" y="5084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580000" y="5516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67280" y="522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21964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General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11280" y="5805360"/>
            <a:ext cx="338436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s defined by matrix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643280" y="5589720"/>
            <a:ext cx="3348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356000" y="5805360"/>
            <a:ext cx="165744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32720" y="5805360"/>
            <a:ext cx="16542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979640" y="5410080"/>
            <a:ext cx="915840" cy="3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1143000"/>
            <a:ext cx="7772400" cy="32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R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denote the language families defined by general   n-MGN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and general n-MGR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MG) =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R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N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62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deriv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71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multiform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: Two Approach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mbol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0666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le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terminal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 n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ultigenerativ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onterminal-synchroniz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 syst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1911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153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105520" y="4191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219320"/>
            <a:ext cx="83822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be a n-MG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en-GB" sz="39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cs-CZ" sz="2900" spc="-1" strike="noStrike" baseline="-25000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3406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3406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51814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219320"/>
            <a:ext cx="80010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Union Mo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335268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4038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556272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1789560" y="506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38862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45720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5334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94360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63388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434340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350532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695720" y="41148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5797800" y="4486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5797800" y="601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5410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102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08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atenat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200" spc="-1" strike="noStrike">
                <a:solidFill>
                  <a:srgbClr val="000000"/>
                </a:solidFill>
                <a:latin typeface="Times New Roman"/>
              </a:rPr>
              <a:t>Conc. M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57978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518148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6-26T22:50:05Z</dcterms:modified>
  <cp:revision>193</cp:revision>
  <dc:subject/>
  <dc:title>Formal Languages and Compilers</dc:title>
</cp:coreProperties>
</file>